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B916-CDD3-4157-92A1-5D1A1972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60C3-DE45-4561-9290-C3EDC31C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36D7-B131-47F3-9ED7-A57EAF59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B36D-C49B-4260-B38D-9EC94150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1A4F-CEC0-4C36-B58B-24E352E7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6DC-A274-4E62-ABF8-B9B8EEC5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BA6B-FA53-4F27-9A62-3BE86AFE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E577-379E-42C4-8DEE-23A906F3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E56-92EE-433D-B3E9-8404DF6C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4320-C406-4C16-8881-094A7041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9F6-8009-4B94-9FC3-4401B70A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288-B64E-4172-9F20-0B20CCD5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38A9-2C99-4373-BEAD-6F5B1BA34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5607" t="11721" r="23366" b="22659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14330" t="25003" r="19625" b="14065"/>
          <a:stretch/>
        </p:blipFill>
        <p:spPr>
          <a:xfrm>
            <a:off x="533520" y="380880"/>
            <a:ext cx="8076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5:02:24Z</dcterms:created>
  <dc:creator>Valeria.Palladino</dc:creator>
  <dc:description/>
  <dc:language>en-US</dc:language>
  <cp:lastModifiedBy>Home</cp:lastModifiedBy>
  <dcterms:modified xsi:type="dcterms:W3CDTF">2010-02-06T18:45:26Z</dcterms:modified>
  <cp:revision>1</cp:revision>
  <dc:subject/>
  <dc:title>Slide 1</dc:title>
</cp:coreProperties>
</file>